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01F5-F583-41FC-ACF5-4ACD62718E0C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13F-519E-4338-8BED-97FD42321BF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626E-3A94-4BD2-8FC1-09D83DA7DE4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2A1-33C4-479F-9A2F-A15015C359E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C5CB-2BB1-4909-A818-826F49116B0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951-AE31-4E9F-89F3-501D1E0AF59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538-680D-4793-911B-4C0A8550A4C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5C8E-58BB-4901-B668-F1F6D159302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289C-E3AB-4742-B5B0-2392C452AAD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196E-596D-4472-8743-70010490464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5349-50D2-4198-9791-36AAF28C79B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70E-AB86-4E65-B05B-9B4EB571A1F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85C-CC7F-4495-B920-A7D984C7AC4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E7-5658-4446-AE95-0FF6459D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61D-9D7F-45F3-8D67-70B61060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82A-7277-4A60-8842-6A145F52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57E-CD17-461A-BDA8-5B8E1DB6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A3D-677D-4B21-91AE-BF6923F2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CE8-E124-44A2-A4F6-C9390CC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8ABE-DEC3-436C-ABB8-B4F67A9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A960-D0F5-4151-9EE0-717D411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ADFA-FF43-4C82-BD46-44DF006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41B9-4302-4B97-9365-DB05FF6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0ADC-8D19-4BDB-81CD-132D6DA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7B8-A5FF-48F2-BB1B-0575D29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1272-6EEE-4983-8337-6AFF5D6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1B24-90FC-48E9-84E5-E575816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1ED-0387-41D5-946D-89D1F95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61E-1A8F-4AA4-BE6A-26499A28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9EA4-4227-4E3F-BF25-7A081CE7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7E50-95CE-4094-9EF9-5AD397C5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3936-93C4-48CC-84A3-1898A64E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EC1D-F6C0-4485-BFCC-6032520D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EAF1-900C-4270-A57E-CB43A6AC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131C-3FE5-4BC5-9136-7B5205E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F37-ECEA-4A68-8A07-2B8B89F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60E4-3818-403A-8F5E-EF051A7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9FDC-CFE1-4CEB-A21A-9C4D365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8CA0-D2F8-419C-891F-FA1B7E6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E866-2A99-41D5-B4B9-94DA81B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5AD0-29DF-4FEC-8657-03EA0CB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4222-5904-44B6-9F64-096CB86B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2B9E-3A24-41C4-A423-FFAF73D7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351-A621-4977-A86A-80EA9C1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335-BD9C-4DB7-9731-F7A16F4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ECF-FBFE-4A23-A84F-E59707B2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7BF-B3B6-4A69-A306-06CD73D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303-D74A-4F84-870A-6850CFF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713-C6D1-4AE2-889C-681DA7B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9D34-AEDC-4B15-8C19-FAD762E3112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365-288E-4DEC-9B50-95348484FA99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CD69-C319-498B-A1DA-E978740B2CC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0FF-0FCD-44CF-B897-E8946535C74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ZoneTexte 6"/>
          <p:cNvSpPr/>
          <p:nvPr/>
        </p:nvSpPr>
        <p:spPr>
          <a:xfrm>
            <a:off x="393840" y="2031840"/>
            <a:ext cx="7975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85840" y="285840"/>
          <a:ext cx="8072280" cy="61070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400"/>
                <a:gridCol w="1344600"/>
                <a:gridCol w="1346040"/>
                <a:gridCol w="13446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U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GDU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FPR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cycle x ben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-24 m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m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-24 m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-24 m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 packa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Wage, Savings, Asset Grant, Training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 (Wage, Savings,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 grant, Training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 (Wage, Savings, Asset Grant, Training, CfW, + Health Ass.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 (Wage, Savings, Trainings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 involved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st/exit strateg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ion/incomegrowth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ion/income growth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ion/income growth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ion/Microcredit b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wth / Protect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 + 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400"/>
            </a:br>
            <a:r>
              <a:rPr b="0" lang="en-US" sz="2400" spc="-1" strike="noStrike">
                <a:solidFill>
                  <a:srgbClr val="aa1f1d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Verdana"/>
              </a:rPr>
              <a:t>Key ques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ow ST mechanisms are working in BG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re ST mechanisms useful and effectiv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re we able to measure the impact at national level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400"/>
            </a:br>
            <a:r>
              <a:rPr b="0" lang="en-US" sz="2400" spc="-1" strike="noStrike">
                <a:solidFill>
                  <a:srgbClr val="aa1f1d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Verdana"/>
              </a:rPr>
              <a:t>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oB ro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priorities: Growth/Prote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priorities: categories of beneficiar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ordination: GoB off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ordination: common position of the main don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eakages (political pressure, private interests, lobbies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400"/>
            </a:br>
            <a:r>
              <a:rPr b="0" lang="en-US" sz="2400" spc="-1" strike="noStrike">
                <a:solidFill>
                  <a:srgbClr val="aa1f1d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Verdana"/>
              </a:rPr>
              <a:t>Positive tre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.8 % GDP (2008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oB – political willingness to improve and increase S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pen dialogue among GoB/donors/U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ew donors are planning to increase their budget (USAI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essons learned from the field and researchers could influence the planners and architects to design the new syste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Bangladesh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ze: Approx. 150 Km2 (as Greec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: Approx. 150 Mil. (as Germany+ Ital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N. of poor people (less than 2$/day): 75 Mil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N. of poor people (less than 1$/day): 35 Mil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ltra-poor: less than 1$/day – 1.805 Kcal/da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or:          less than 2$/day – 2.100 Kcal/da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4000" y="2999880"/>
            <a:ext cx="7088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Q 1 – Who are the main stakeholders involved?</a:t>
            </a:r>
            <a:br>
              <a:rPr sz="2000"/>
            </a:b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Q 2 – Does GoB have a leading role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Q3  – How many Social Transfer schemes are      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ngoing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24000" y="23572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400"/>
            </a:b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An overview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000"/>
            </a:br>
            <a:r>
              <a:rPr b="0" lang="en-US" sz="2000" spc="-1" strike="noStrike">
                <a:solidFill>
                  <a:srgbClr val="aa1f1d"/>
                </a:solidFill>
                <a:latin typeface="Verdana"/>
              </a:rPr>
              <a:t>An overview</a:t>
            </a: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1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fficial Frame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od Policy approved in 2006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ction plan approved in 2008 (12 ministries involved and 26 sub-sectors identifie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ordination of ST directly under the Prime Minister off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od Security Investment Forum – Ma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Stakeholders involv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veral Ministries (more than 5..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onors (EC, DFID, USAID, WB, etc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Ns (UNICEF, FAO, WFP, UNDP, et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GOs + NGOs (total n. Unknow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ivate sector (mobile tel, others?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neficiaries (how many?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1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000"/>
            </a:b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bjectiv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-633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ocial Protection (Health and Education) – Welfa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-633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Growth (Job opportunities/IGAs, etc.) – Graduation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33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Enhancing Livelihoods among Agricultural Workers</a:t>
            </a:r>
            <a:r>
              <a:rPr b="1" lang="en-GB" sz="2000" spc="-1" strike="noStrike">
                <a:solidFill>
                  <a:srgbClr val="aa1f1d"/>
                </a:solidFill>
                <a:latin typeface="Verdana"/>
              </a:rPr>
              <a:t>: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81" name="Picture 4" descr="C:\Documents and Settings\user\Desktop\MLR\BGD-SN-2009-06-1871.JPG"/>
          <p:cNvPicPr/>
          <p:nvPr/>
        </p:nvPicPr>
        <p:blipFill>
          <a:blip r:embed="rId1"/>
          <a:stretch/>
        </p:blipFill>
        <p:spPr>
          <a:xfrm>
            <a:off x="0" y="-357120"/>
            <a:ext cx="93265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0769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84" name="Picture 5" descr="C:\Documents and Settings\user\Desktop\MLR\BGD-SN-2009-06-1859.JPG"/>
          <p:cNvPicPr/>
          <p:nvPr/>
        </p:nvPicPr>
        <p:blipFill>
          <a:blip r:embed="rId1"/>
          <a:stretch/>
        </p:blipFill>
        <p:spPr>
          <a:xfrm>
            <a:off x="-1428840" y="-428760"/>
            <a:ext cx="12436560" cy="93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Social transfers in Bangladesh</a:t>
            </a:r>
            <a:br>
              <a:rPr sz="2000"/>
            </a:b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Verdana"/>
              </a:rPr>
              <a:t>EU Del is funding 14 projects/with ST mechanism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8 projects under FF (3 UNs +5 INGOs/NGO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6 projects under FST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Verdana"/>
              </a:rPr>
              <a:t>Few examples of projects funded by the Commission and DF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SUP (Food Security for Ultra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GDUP (Vulnerable G Development for Ultra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P (Chars Livelihood Projec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FPR (Challenge Frontiers for the Ultra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1f0e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040" y="357120"/>
          <a:ext cx="8143920" cy="636120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7200"/>
                <a:gridCol w="1357200"/>
                <a:gridCol w="1357560"/>
                <a:gridCol w="135720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U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GDU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FPR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or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ID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ID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iv. Mec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 + Dec. Cf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Agr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Agr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ner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FP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CU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W. n C Affairs + 4 NG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MU (Private Firm) + 15-20 NG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 Eur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 Eur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 M P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 M P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. Ben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.00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.000?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.000+500.00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x $ received x b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300?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 -1.00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durat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5 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5 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PDELIA</cp:lastModifiedBy>
  <cp:lastPrinted>2003-11-06T16:40:02Z</cp:lastPrinted>
  <dcterms:modified xsi:type="dcterms:W3CDTF">2010-07-09T16:15:21Z</dcterms:modified>
  <cp:revision>907</cp:revision>
  <dc:subject/>
  <dc:title>No Slide Title</dc:title>
</cp:coreProperties>
</file>